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7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9.png" ContentType="image/png"/>
  <Override PartName="/ppt/media/image22.jpeg" ContentType="image/jpeg"/>
  <Override PartName="/ppt/media/image3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98D3-BA3C-42D9-9A21-F0358C4B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2057-5F40-4740-B533-B36D5A25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5FBC-E3EB-4C0B-8B83-197F1946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EDAC-8A86-4821-8179-E2CD9F39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98AD-172B-4447-BD10-3CDDA88C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73DE-E48A-42D5-9325-565ECAD1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A0FC-146D-4267-8666-4EAF1720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6576-F1A6-4FE3-81D4-7DE41D8A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C24E-E0E4-41D7-8323-A50BB046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7CB6-6C3E-4714-978F-DAAECD40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0870-93DE-4EF1-8DA0-14DF671F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4CFF-0A4D-420D-88C7-633F9D41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2120-9E6D-4011-BBD1-5BD14D9F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21A9-17ED-4027-B429-A5965CB3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9B2F-21AD-421B-8D52-54929CE9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FD56-8D5E-4474-80D4-49D5D98A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2D87-DE2A-4CBD-A461-99A77EFC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205A-5772-452B-8016-6BE479CD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1692-E815-4D79-9ABB-B17B6277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C886-7E4E-4292-A8EE-829B95BF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48AE-4062-445F-A30A-7B0F61B8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8DAF-4900-4F0B-8AC6-FC9359F4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FC41-FE5F-4108-B2DE-7EA98704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4E5-C3ED-40E1-B74D-216DC684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D37A-1EA8-4A0F-ABB0-FDD4730CD0B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greencellsfade3-rev" descr=""/>
          <p:cNvPicPr/>
          <p:nvPr/>
        </p:nvPicPr>
        <p:blipFill>
          <a:blip r:embed="rId2"/>
          <a:stretch/>
        </p:blipFill>
        <p:spPr>
          <a:xfrm>
            <a:off x="0" y="5308560"/>
            <a:ext cx="9144000" cy="1549440"/>
          </a:xfrm>
          <a:prstGeom prst="rect">
            <a:avLst/>
          </a:prstGeom>
          <a:ln w="0">
            <a:noFill/>
          </a:ln>
        </p:spPr>
      </p:pic>
      <p:pic>
        <p:nvPicPr>
          <p:cNvPr id="4" name="gdcpowerpointheader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Bliss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liss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liss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5481-9ABC-4761-8275-BDBEA7EEE63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greencellsfade3-rev" descr=""/>
          <p:cNvPicPr/>
          <p:nvPr/>
        </p:nvPicPr>
        <p:blipFill>
          <a:blip r:embed="rId2"/>
          <a:stretch/>
        </p:blipFill>
        <p:spPr>
          <a:xfrm>
            <a:off x="0" y="5308560"/>
            <a:ext cx="9144000" cy="1549440"/>
          </a:xfrm>
          <a:prstGeom prst="rect">
            <a:avLst/>
          </a:prstGeom>
          <a:ln w="0">
            <a:noFill/>
          </a:ln>
        </p:spPr>
      </p:pic>
      <p:pic>
        <p:nvPicPr>
          <p:cNvPr id="47" name="gdcpowerpointheader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BlissRegular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BlissRegular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BlissRegular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Bliss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Bliss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nkasha-games.com/" TargetMode="External"/><Relationship Id="rId2" Type="http://schemas.openxmlformats.org/officeDocument/2006/relationships/hyperlink" Target="http://www.daionet.gr.jp/~masa/" TargetMode="External"/><Relationship Id="rId3" Type="http://schemas.openxmlformats.org/officeDocument/2006/relationships/hyperlink" Target="http://www.daionet.gr.jp/~masa/" TargetMode="External"/><Relationship Id="rId4" Type="http://schemas.openxmlformats.org/officeDocument/2006/relationships/hyperlink" Target="http://www.daionet.gr.jp/~masa/" TargetMode="External"/><Relationship Id="rId5" Type="http://schemas.openxmlformats.org/officeDocument/2006/relationships/hyperlink" Target="http://www.daionet.gr.jp/~masa/" TargetMode="External"/><Relationship Id="rId6" Type="http://schemas.openxmlformats.org/officeDocument/2006/relationships/hyperlink" Target="http://www.daionet.gr.jp/~masa/" TargetMode="External"/><Relationship Id="rId7" Type="http://schemas.openxmlformats.org/officeDocument/2006/relationships/hyperlink" Target="http://www.daionet.gr.jp/~masa/" TargetMode="External"/><Relationship Id="rId8" Type="http://schemas.openxmlformats.org/officeDocument/2006/relationships/hyperlink" Target="http://www.daionet.gr.jp/~masa/" TargetMode="External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17.xml"/><Relationship Id="rId4" Type="http://schemas.openxmlformats.org/officeDocument/2006/relationships/slide" Target="slide39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s.utah.edu/~reinhard/cdrom/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9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utah.edu/~reinhard/cdrom/" TargetMode="External"/><Relationship Id="rId2" Type="http://schemas.openxmlformats.org/officeDocument/2006/relationships/hyperlink" Target="http://www.ati.com/developer/techpapers.html" TargetMode="External"/><Relationship Id="rId3" Type="http://schemas.openxmlformats.org/officeDocument/2006/relationships/hyperlink" Target="http://msdn.microsoft.com/library/default.asp?url=/library/en-us/directx9_c/directx/graphics/TutorialsAndSamples/HDRLighting.asp" TargetMode="External"/><Relationship Id="rId4" Type="http://schemas.openxmlformats.org/officeDocument/2006/relationships/hyperlink" Target="http://msdn.microsoft.com/library/default.asp?url=/library/en-us/directx9_c/directx/graphics/TutorialsAndSamples/HDRLighting.asp" TargetMode="External"/><Relationship Id="rId5" Type="http://schemas.openxmlformats.org/officeDocument/2006/relationships/hyperlink" Target="http://msdn.microsoft.com/library/default.asp?url=/library/en-us/directx9_c/directx/graphics/TutorialsAndSamples/HDRLighting.asp" TargetMode="External"/><Relationship Id="rId6" Type="http://schemas.openxmlformats.org/officeDocument/2006/relationships/hyperlink" Target="http://www.debevec.org/" TargetMode="External"/><Relationship Id="rId7" Type="http://schemas.openxmlformats.org/officeDocument/2006/relationships/hyperlink" Target="http://www.debevec.org/" TargetMode="External"/><Relationship Id="rId8" Type="http://schemas.openxmlformats.org/officeDocument/2006/relationships/hyperlink" Target="http://www.debevec.org/" TargetMode="External"/><Relationship Id="rId9" Type="http://schemas.openxmlformats.org/officeDocument/2006/relationships/hyperlink" Target="http://www.daionet.gr.jp/~masa/column/2003-03-21.html" TargetMode="External"/><Relationship Id="rId10" Type="http://schemas.openxmlformats.org/officeDocument/2006/relationships/hyperlink" Target="http://www.daionet.gr.jp/~masa/column/2003-03-21.html" TargetMode="External"/><Relationship Id="rId11" Type="http://schemas.openxmlformats.org/officeDocument/2006/relationships/hyperlink" Target="http://www.daionet.gr.jp/~masa/column/2003-03-21.html" TargetMode="External"/><Relationship Id="rId12" Type="http://schemas.openxmlformats.org/officeDocument/2006/relationships/hyperlink" Target="http://www.daionet.gr.jp/~masa/column/2003-03-21.html" TargetMode="External"/><Relationship Id="rId13" Type="http://schemas.openxmlformats.org/officeDocument/2006/relationships/hyperlink" Target="http://www.daionet.gr.jp/~masa/column/2003-03-21.html" TargetMode="External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actical Implementation of High Dynamic Range Rendering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4114800"/>
            <a:ext cx="5181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lr oSVbN"/>
              </a:rPr>
              <a:t>Masaki Kawase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lr oSVbN"/>
              </a:rPr>
              <a:t>BUNKASHA GAMES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lr oSVbN"/>
              </a:rPr>
              <a:t>BUNKASHA PUBLISHING CO.,LTD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lissRegular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"/>
              </a:rPr>
              <a:t>http://www.bunkasha-games.com</a:t>
            </a:r>
            <a:endParaRPr b="0" lang="en-US" sz="1400" spc="-1" strike="noStrike">
              <a:solidFill>
                <a:srgbClr val="000000"/>
              </a:solidFill>
              <a:latin typeface="BlissRegular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2"/>
              </a:rPr>
              <a:t>http://www.</a:t>
            </a: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3"/>
              </a:rPr>
              <a:t>daionet</a:t>
            </a: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4"/>
              </a:rPr>
              <a:t>.gr.</a:t>
            </a: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5"/>
              </a:rPr>
              <a:t>jp</a:t>
            </a: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6"/>
              </a:rPr>
              <a:t>/</a:t>
            </a: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7"/>
              </a:rPr>
              <a:t>~masa</a:t>
            </a: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8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Dynamic Range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e ratio of the greatest value to the smallest value that can be represented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isplayable imag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2</a:t>
            </a:r>
            <a:r>
              <a:rPr b="0" lang="ja-JP" sz="2400" spc="-1" strike="noStrike" baseline="30000">
                <a:solidFill>
                  <a:srgbClr val="000000"/>
                </a:solidFill>
                <a:latin typeface="BlissRegular"/>
                <a:ea typeface="ＭＳ Ｐゴシック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 dynamic range (LDR)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rame buffer of absolute luminanc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nder the scene in absolute luminance spac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&gt;2</a:t>
            </a:r>
            <a:r>
              <a:rPr b="0" lang="ja-JP" sz="2400" spc="-1" strike="noStrike" baseline="30000">
                <a:solidFill>
                  <a:srgbClr val="000000"/>
                </a:solidFill>
                <a:latin typeface="BlissRegular"/>
                <a:ea typeface="ＭＳ Ｐゴシック"/>
              </a:rPr>
              <a:t>32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presents all luminances directly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rame buffer of relative luminanc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pply exposure scaling during rendering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&gt;2</a:t>
            </a:r>
            <a:r>
              <a:rPr b="0" lang="ja-JP" sz="2400" spc="-1" strike="noStrike" baseline="30000">
                <a:solidFill>
                  <a:srgbClr val="000000"/>
                </a:solidFill>
                <a:latin typeface="BlissRegular"/>
                <a:ea typeface="ＭＳ Ｐゴシック"/>
              </a:rPr>
              <a:t>15~16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ark regions are not important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Frame Buff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or glare generation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When rendering with relative luminances: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deally, more than 2</a:t>
            </a:r>
            <a:r>
              <a:rPr b="0" lang="ja-JP" sz="2800" spc="-1" strike="noStrike" baseline="30000">
                <a:solidFill>
                  <a:srgbClr val="000000"/>
                </a:solidFill>
                <a:latin typeface="BlissRegular"/>
                <a:ea typeface="ＭＳ Ｐゴシック"/>
              </a:rPr>
              <a:t>15~16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n game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2</a:t>
            </a:r>
            <a:r>
              <a:rPr b="0" lang="ja-JP" sz="2400" spc="-1" strike="noStrike" baseline="30000">
                <a:solidFill>
                  <a:srgbClr val="000000"/>
                </a:solidFill>
                <a:latin typeface="BlissRegular"/>
                <a:ea typeface="ＭＳ Ｐゴシック"/>
              </a:rPr>
              <a:t>12~13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(4,000~10,000) is acceptabl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Environment Map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Very important for representing: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alistic specular reflection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azzling specular reflection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pecular reflectance of nonmetal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flectance in the normal direction is typical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ess than 4%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Bright light remains bright after such low reflection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o maintain dazzles after reflection of ~1-4%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ynamic range of more than 10,000 or 20,000 is necessary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Implementation on DX8 Hardware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We have no choice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Pixel Shader 1.x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nteger operations only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DR buffer format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-precision buffers only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the alpha channel as luminance information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ake it to achieve believable appearanc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ccurate calculation is not feasible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Fake HDR Pixel Shader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048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Glossy reflection material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1752480"/>
            <a:ext cx="51051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ps_1_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t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t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t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ad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0.rgb,  v0, t2,  v1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Scale the primary diffuse color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shadow/light map, and add the result o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other per-vertex ligh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+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ul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t0.a,  v1.a, t0.a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Scale the specular reflect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by gloss m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ul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0.rgb,  t0, r0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Modulate diffuse color with decal 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+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ul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0.a,  t0.a, t1.a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r0.a = specular reflect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* envmap lumin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ul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t1.rgb,  t1, c0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Modulate envmap with specular co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+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ul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1.a,  r0.a, t1.a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Envmap brightness parame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r1.a = specular reflect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* envmap luminance * gloss m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rp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0.rgb,  t0.a,  t1, r0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Reflect the envmap by specular reflect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ul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1.a,  r1.a, c0.a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Envmap brightness parame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r1.a = specular reflect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* envmap luminance * gloss m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* Clamp(gloss * 2, 0, 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rp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0.rgb,  r1.a,  t1, r0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Output co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Interpolate the envmap color and th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result of LDR computation, based 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the envmap brightness parameter (r1.a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+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rp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0.a,  r1.a,  t1.a, r0.a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Output luminance inform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2438280"/>
            <a:ext cx="32004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v0.rgb : Diffuse color of primary ligh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v1.rgb : Color for other lights/ambi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         pre-scaled by (exposure * 0.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v1.a   : Specular reflectance (Fresne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t0.rgb : Decal texture (for diffus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t0.a   : Gloss map (for specula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t1.rgb : Envmap co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t1.a   : Envmap lumin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t2.rgb : Shadow/light m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c0.rgb : Specular co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c0.a   : Clamp(gloss * 2, 0, 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Generating Displayable Image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xtract high-luminance region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reshold</a:t>
            </a: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: ~0.4-0.5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Generate glar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ference: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960120" indent="-191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Kawase, Masaki, </a:t>
            </a:r>
            <a:r>
              <a:rPr b="0" i="1" lang="ja-JP" sz="16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“Frame Buffer Postprocessing Effects in DOUBLE-S.T.E.A.L (Wreckless)”</a:t>
            </a:r>
            <a:endParaRPr b="0" lang="en-US" sz="1600" spc="-1" strike="noStrike">
              <a:solidFill>
                <a:srgbClr val="000000"/>
              </a:solidFill>
              <a:latin typeface="BlissRegular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Generate a displayable imag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alculate the luminance from the frame buffe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dd the result of glare generation to the luminanc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676520" y="5486400"/>
                <a:ext cx="57178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u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ose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g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gb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d>
                    <m:r>
                      <m:t xml:space="preserve">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295280" y="2209680"/>
                <a:ext cx="49532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lar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uffe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rgb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hreshol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Notes on DX8 Implementation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ccurate calculation is not feasible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ow to make it believable by faking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Based on appearance rather than theory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Implementation on DX9 Hardware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ere are currently many limitation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hoose implementations accordingly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Pixel Shader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Pixel Shader 2.0 or later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Pixel Shader 1.x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Buffer formats for HDR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-precision integer/float buffer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-precision integer buffer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Issues with High-Precision Buff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emory usag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t least twice as much memory as the conventional full-color buffer is needed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imitation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lpha blending cannot be used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exture filtering cannot be used with floating-point formats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ome systems don’t support them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e situation is not good…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Use Low-Precision Buff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ake use of low-precision buffer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8R8G8B8 / A2R10G10B10 etc.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 memory consumption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lpha blending can be used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" action="ppaction://hlinksldjump"/>
              </a:rPr>
              <a:t>What can be done with HDR?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ynamic Range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2" action="ppaction://hlinksldjump"/>
              </a:rPr>
              <a:t>Implementation on DX8 hardware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3" action="ppaction://hlinksldjump"/>
              </a:rPr>
              <a:t>Implementation on DX9 hardware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ultiple Gaussian Filter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4" action="ppaction://hlinksldjump"/>
              </a:rPr>
              <a:t>HDR in game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Compression with Tone Mapping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nder directly to displayable format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Nonlinear color compression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ffectively wide dynamic rang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ference: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inhard, Erik, Mike Stark, Peter Shirley, and Jim Ferwerda, </a:t>
            </a:r>
            <a:r>
              <a:rPr b="0" lang="ja-JP" sz="18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"/>
              </a:rPr>
              <a:t>“Photographic Tone Reproduction for Digital Images”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e alpha channel is not used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an be used for any other purpos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76520" y="3048120"/>
                <a:ext cx="36399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uffe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u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pose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u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pose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Environment Map Format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latively low resolution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lpha channel/blending is not very important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the 16-bit integer format if enough memory storage is availabl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reat it as having an interval of [0, 256] or [0, 512]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exture filtering can be used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n the futur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o it all with A16B16G16R16F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Low-Precision Environment Map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them when: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-precision buffers are not supported, o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emory storage is limited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f the fill-rate of your system is relatively low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the same format as used in DX8 fake HD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f the fill-rate is high enough: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Nonlinear color compression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imilar to tone mapping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tore exponents into the alpha channel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ore accurate operations are possible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ing it just as a scale factor is not enough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ven the DX8 fake HDR has a much bigger impact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Color Compression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imilar to tone mapping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ncode when rendering to an environment map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3" marL="1263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Offset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: luminance curve controlling factor (~2-4)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 bigger offset means: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3" marL="1263960" indent="-180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-luminance regions have higher resolutions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3" marL="1263960" indent="-180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-luminance regions have Lower resolutions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ecode when rendering to a frame buffer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rom the environment map fetched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3" marL="1263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3" marL="1263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: a small value to avoid divide-by-zero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47920" y="2438280"/>
                <a:ext cx="42037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uffe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u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pose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u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pose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Offse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523880" y="5334120"/>
                <a:ext cx="41817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u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ose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Offset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Color Compression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carefully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ach banding may become noticeable on reflections of large area light sources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.g. Light sky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E8R8G8B8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tore a common exponent for RGB into the alpha channel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a base of 1.04 to 1.08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                                                              </a:t>
            </a:r>
            <a:r>
              <a:rPr b="0" i="1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offset</a:t>
            </a: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: ~64-128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Base=1.04 means dynamic range of ~23,000 (1.04</a:t>
            </a:r>
            <a:r>
              <a:rPr b="0" lang="ja-JP" sz="2400" spc="-1" strike="noStrike" baseline="30000">
                <a:solidFill>
                  <a:srgbClr val="000000"/>
                </a:solidFill>
                <a:latin typeface="BlissRegular"/>
                <a:ea typeface="ＭＳ Ｐゴシック"/>
              </a:rPr>
              <a:t>256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 bigger base value means: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er dynamic rang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er resolution (Mach banding becomes noticeable)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219320" y="3276720"/>
                <a:ext cx="510516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u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os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uffe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rgb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as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α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offse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E8R8G8B8 Encoding (HLSL)</a:t>
            </a:r>
            <a:endParaRPr b="0" lang="en-US" sz="44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3886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a^n = b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#define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LOG(a, b)   (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og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(b)) /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og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(a)) 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#define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EXP_BASE    (1.06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#define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EXP_OFFSET  (128.0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Pixel Shader (6 instruction slots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rgb already exposure-scaled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EncodeHDR_RGB_RGBE8(in float3 rgb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Compute a common exponent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fLen = dot(rgb.rgb, 1.0)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fExp = LOG(EXP_BASE, fLen)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et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et.a = (fExp + EXP_OFFSET) / 256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et.rgb = rgb / fLen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return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et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2286000"/>
            <a:ext cx="49532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More accurate enco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#define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EXP_BASE    (1.0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#define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EXP_OFFSET  (64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Pixel Shader (13 instruction slo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EncodeHDR_RGB_RGBE8(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in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g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et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Compute a common expon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based on the brightest color chan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fLen =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ax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rgb.r, rgb.g)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Len =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ax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fLen, rgb.b)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fExp =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or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 LOG(EXP_BASE, fLen) )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et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et.a =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clamp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 (fExp + EXP_OFFSET) / 256, 0.0, 1.0 )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et.rgb = rgb /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pow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EXP_BASE, ret.a * 256 - EXP_OFFSET)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return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et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E8R8G8B8 Decoding</a:t>
            </a:r>
            <a:endParaRPr b="0" lang="en-US" sz="44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3657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Pixel Shader (5 instruction slots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DecodeHDR_RGBE8_RGB(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in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gbe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fExp = rgbe.a * 256 - EXP_OFFSET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Scale =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pow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EXP_BASE, fExp)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return (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gbe.rgb * fScaler)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85800" y="419112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ncoding/decoding should be done using partial-precision instruction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ounding errors inherent in the texture format are much bigge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2286000"/>
            <a:ext cx="4419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If R16F texture format is availabl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you can use texture to convert alpha to scale fa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DecodeHDR_RGBE8_RGB(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in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gb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samp1D_Exp: 1D float texture of 256x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pow(EXP_BASE, uCoord * 256 - EXP_OFFS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Scale =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1D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samp1D_Exp, rgbe.a).r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return (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gbe.rgb * fScale)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Rendering with Tone Mapping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048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Glossy reflection material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2209680"/>
            <a:ext cx="54864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PS_GlossReflect(PS_INPUT_GlossReflect vIn) : COLOR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DecalMap =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2D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samp2D_Decal, vIn.tcDecal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LightMap =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2D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samp2D_LightMap, vIn.tcLightMap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Diffuse = vIn.cPrimaryDiffuse * vLightMap + vIn.cOtherDiffuse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vDiffuse *= vDecalMap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HDR-decoding of environment m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Specular = DecodeHDR_RGBE8_RGB(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                    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CUBE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sampCUBE_EnvMap, vIn.tcReflect) 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RoughSpecular =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CUBE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sampCUBE_DullEnvMap, vIn.tcReflect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fReflectance =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2D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 samp2D_Fresnel, vIn.tcFresnel ).a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Reflectance *= vDecalMap.a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vSpecular =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erp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vSpecular, vRoughSpecular, fShininess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Lum =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erp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vDiffuse, vSpecular, fReflectance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HDR tone-mapping encod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Out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vOut.rgb = vLum / (vLum + 1.0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vOut.a = 0.0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return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Out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2743200"/>
            <a:ext cx="3200400" cy="23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struct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PS_INPUT_GlossRefl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2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tcDecal         : TEXCOORD0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tcReflect       : TEXCOORD1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2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tcLightMap      : TEXCOORD2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2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tcFresnel       : TEXCOORD3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Exposure-scaled lighting resul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Use TEXCOORD to avoid clamp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cPrimaryDiffuse : TEXCOORD6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cOtherDiffuse   : TEXCOORD7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}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Generating Displayable Image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xtract high-luminance region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reshold</a:t>
            </a: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: ~0.5-0.8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ivide by (1 - </a:t>
            </a:r>
            <a:r>
              <a:rPr b="0" i="1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reshold</a:t>
            </a: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) to normalize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Generate glar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an integer buffer to apply texture filtering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opefully, a float buffer with filtering…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Generate a displayable imag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dd the glare to the frame buffe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371600" y="2708280"/>
                <a:ext cx="49449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lar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uffe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gb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hreshold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hreshold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What can be done with HDR?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" action="ppaction://hlinksldjump"/>
              </a:rPr>
              <a:t>Dazzling light 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2" action="ppaction://hlinksldjump"/>
              </a:rPr>
              <a:t>Dazzling reflection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resnel reflection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bright reflection in the normal direction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xposure control effect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alistic depth-of-field effect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alistic motion blur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Notes on DX9 Implementation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-precision buffer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onsumes a lot of memory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No blending capability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-precision buffer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Pixel shaders are expensiv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onsider fake techniques like DX8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 performanc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 memory consumption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Very effectiv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Multiple Gaussian Filt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Bloom generation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 single Gaussian filter does not give very good result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mall effective radiu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Not sharp enough around the light position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omposite multiple Gaussian filter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Gaussian filters of different radii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arger but sharper glare becomes possibl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Gauss0_trim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504960" cy="22939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Multiple Gaussian Filt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743200" y="4952880"/>
                <a:ext cx="24382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stance from the orig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6" name="Gauss1_trim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3504960" cy="2293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354640" y="4419720"/>
                <a:ext cx="247320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</m:e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152800" y="4343400"/>
                <a:ext cx="799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3962520" y="3124080"/>
            <a:ext cx="114300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4240" y="443880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</a:rPr>
              <a:t>Original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438800" y="4343400"/>
                <a:ext cx="799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6345360" y="4343400"/>
                <a:ext cx="2473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</m:e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3" name="GaussTest_OrgImage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194" name="GaussComposite" descr=""/>
          <p:cNvPicPr/>
          <p:nvPr/>
        </p:nvPicPr>
        <p:blipFill>
          <a:blip r:embed="rId2"/>
          <a:stretch/>
        </p:blipFill>
        <p:spPr>
          <a:xfrm>
            <a:off x="6248520" y="2362320"/>
            <a:ext cx="2590560" cy="1942920"/>
          </a:xfrm>
          <a:prstGeom prst="rect">
            <a:avLst/>
          </a:prstGeom>
          <a:ln w="0">
            <a:noFill/>
          </a:ln>
        </p:spPr>
      </p:pic>
      <p:pic>
        <p:nvPicPr>
          <p:cNvPr id="195" name="GaussTest_Org" descr=""/>
          <p:cNvPicPr/>
          <p:nvPr/>
        </p:nvPicPr>
        <p:blipFill>
          <a:blip r:embed="rId3"/>
          <a:stretch/>
        </p:blipFill>
        <p:spPr>
          <a:xfrm>
            <a:off x="3581280" y="2362320"/>
            <a:ext cx="2590920" cy="1942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Multiple Gaussian Filt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Multiple Gaussian Filt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 filter of large radius is very expensiv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ake use of downscaled buffer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 large radius means a strong low-pass filte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pply a blur filter to a low-res version of the image and magnify it by bilinear filtering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The error is unnoticeable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hange the image resolution rather than the filter radius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1/4 x 1/4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(1/16 the cost)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1/8 x 1/8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(1/64 the cost)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1/16 x 1/16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(1/256 the cost)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1/32 x 1/32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(1/1024 the cost)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ven a large filter of several hundred pixels square can be applied very quickly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Applying Gaussian Filters to Downscaled Buff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pic>
        <p:nvPicPr>
          <p:cNvPr id="200" name="Bloom4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201" name="Bloom8" descr=""/>
          <p:cNvPicPr/>
          <p:nvPr/>
        </p:nvPicPr>
        <p:blipFill>
          <a:blip r:embed="rId2"/>
          <a:stretch/>
        </p:blipFill>
        <p:spPr>
          <a:xfrm>
            <a:off x="3429000" y="22860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202" name="Bloom16" descr=""/>
          <p:cNvPicPr/>
          <p:nvPr/>
        </p:nvPicPr>
        <p:blipFill>
          <a:blip r:embed="rId3"/>
          <a:stretch/>
        </p:blipFill>
        <p:spPr>
          <a:xfrm>
            <a:off x="5791320" y="22860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Bloom32" descr=""/>
          <p:cNvPicPr/>
          <p:nvPr/>
        </p:nvPicPr>
        <p:blipFill>
          <a:blip r:embed="rId4"/>
          <a:stretch/>
        </p:blipFill>
        <p:spPr>
          <a:xfrm>
            <a:off x="1066680" y="434340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204" name="Bloom64" descr=""/>
          <p:cNvPicPr/>
          <p:nvPr/>
        </p:nvPicPr>
        <p:blipFill>
          <a:blip r:embed="rId5"/>
          <a:stretch/>
        </p:blipFill>
        <p:spPr>
          <a:xfrm>
            <a:off x="3429000" y="4343400"/>
            <a:ext cx="2209680" cy="1657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871200" y="5943600"/>
            <a:ext cx="25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lissRegular"/>
              </a:rPr>
              <a:t>1/32 x 1/32 (32x48 pix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33160" y="5943600"/>
            <a:ext cx="25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lissRegular"/>
              </a:rPr>
              <a:t>1/64 x 1/64 (16x12 pix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71200" y="3886200"/>
            <a:ext cx="25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lissRegular"/>
              </a:rPr>
              <a:t>1/4 x 1/4 (256x192 pix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40360" y="3886200"/>
            <a:ext cx="24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lissRegular"/>
              </a:rPr>
              <a:t>1/8 x 1/8 (128x96 pix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95480" y="3886200"/>
            <a:ext cx="25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lissRegular"/>
              </a:rPr>
              <a:t>1/16 x 1/16 (64x48 pix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Bilinear Filtering and Composition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agnify them using bilinear filtering and composite the result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e error is almost unrecognizabl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  <p:pic>
        <p:nvPicPr>
          <p:cNvPr id="212" name="Bloom4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13" name="BloomComposite" descr=""/>
          <p:cNvPicPr/>
          <p:nvPr/>
        </p:nvPicPr>
        <p:blipFill>
          <a:blip r:embed="rId2"/>
          <a:stretch/>
        </p:blipFill>
        <p:spPr>
          <a:xfrm>
            <a:off x="5867280" y="50292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14" name="Bloom8_BL" descr=""/>
          <p:cNvPicPr/>
          <p:nvPr/>
        </p:nvPicPr>
        <p:blipFill>
          <a:blip r:embed="rId3"/>
          <a:stretch/>
        </p:blipFill>
        <p:spPr>
          <a:xfrm>
            <a:off x="3276720" y="3429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215" name="Bloom16_BL" descr=""/>
          <p:cNvPicPr/>
          <p:nvPr/>
        </p:nvPicPr>
        <p:blipFill>
          <a:blip r:embed="rId4"/>
          <a:stretch/>
        </p:blipFill>
        <p:spPr>
          <a:xfrm>
            <a:off x="5410080" y="34290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16" name="Bloom32_BL" descr=""/>
          <p:cNvPicPr/>
          <p:nvPr/>
        </p:nvPicPr>
        <p:blipFill>
          <a:blip r:embed="rId5"/>
          <a:stretch/>
        </p:blipFill>
        <p:spPr>
          <a:xfrm>
            <a:off x="1143000" y="50292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17" name="Bloom64_BL" descr=""/>
          <p:cNvPicPr/>
          <p:nvPr/>
        </p:nvPicPr>
        <p:blipFill>
          <a:blip r:embed="rId6"/>
          <a:stretch/>
        </p:blipFill>
        <p:spPr>
          <a:xfrm>
            <a:off x="3276720" y="502920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972160" y="396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880" y="396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2160" y="5562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4480" y="5562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Good Enough!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pic>
        <p:nvPicPr>
          <p:cNvPr id="223" name="BloomComposite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Notes on Filter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high-precision formats for low-res buffer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on’t take too many sample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Very expensive, especially for high-res image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in Game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hould be appealing rather than accurat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ccuracy is not important for players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ven an inaccurate scene can be appealing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ost and performanc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e key is to understand the effects of HD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evise a fake technique that is fast enough and produces believable results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ccurate HDR rendering is still hard in games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HDR only for effects that give a large impact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sprites if you want to generate glare only for the sun, which is much faster and gives high quality results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Dazzling Light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pic>
        <p:nvPicPr>
          <p:cNvPr id="93" name="ImageBaseGlare07" descr=""/>
          <p:cNvPicPr/>
          <p:nvPr/>
        </p:nvPicPr>
        <p:blipFill>
          <a:blip r:embed="rId1"/>
          <a:stretch/>
        </p:blipFill>
        <p:spPr>
          <a:xfrm>
            <a:off x="4191120" y="3733920"/>
            <a:ext cx="4572000" cy="282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ImageBaseGlare09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4572000" cy="281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in Game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nteger formats have very limited dynamic range 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nder in relative luminance spac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pply exposure scaling during rendering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 precision is not needed for the dark regions after exposure scaling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s those regions remain dark in the final imag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arefully choose the range to maximize effective precision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in Game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uture perspective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ll operations can be done in float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ffective use of HDR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epth-of-field with the shape of aperture stop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otion blur with high luminances not clamped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inhard, Erik, Mike Stark, Peter Shirley, and Jim Ferwerda, 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"/>
              </a:rPr>
              <a:t>“Photographic Tone Reproduction for Digital Images”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itchell, Jason L., 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2"/>
              </a:rPr>
              <a:t>“Real-Time 3D Scene Post-Processing”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irectX 9.0 SDK Summer 2003 Update, 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3"/>
              </a:rPr>
              <a:t>“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4"/>
              </a:rPr>
              <a:t>HDRLighting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5"/>
              </a:rPr>
              <a:t> Sample”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ebevec, Paul E., 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6"/>
              </a:rPr>
              <a:t>“Paul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7"/>
              </a:rPr>
              <a:t> Debevec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8"/>
              </a:rPr>
              <a:t> Home Page”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Kawase, Masaki, 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9"/>
              </a:rPr>
              <a:t>“Frame Buffer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0"/>
              </a:rPr>
              <a:t> Postprocessing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1"/>
              </a:rPr>
              <a:t> Effects in DOUBLE-S.T.E.A.L (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2"/>
              </a:rPr>
              <a:t>Wreckless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3"/>
              </a:rPr>
              <a:t>)”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Dazzling Reflection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pic>
        <p:nvPicPr>
          <p:cNvPr id="96" name="ImageBaseGlare05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4114800" cy="260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4114800" y="3952800"/>
          <a:ext cx="4495680" cy="253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3952800"/>
                    <a:ext cx="4495680" cy="25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ImageBaseGlare06" descr=""/>
          <p:cNvPicPr/>
          <p:nvPr/>
        </p:nvPicPr>
        <p:blipFill>
          <a:blip r:embed="rId4"/>
          <a:stretch/>
        </p:blipFill>
        <p:spPr>
          <a:xfrm>
            <a:off x="685800" y="4229280"/>
            <a:ext cx="3581280" cy="2238120"/>
          </a:xfrm>
          <a:prstGeom prst="rect">
            <a:avLst/>
          </a:prstGeom>
          <a:ln w="0">
            <a:noFill/>
          </a:ln>
        </p:spPr>
      </p:pic>
      <p:pic>
        <p:nvPicPr>
          <p:cNvPr id="100" name="ImageBaseGlare04" descr=""/>
          <p:cNvPicPr/>
          <p:nvPr/>
        </p:nvPicPr>
        <p:blipFill>
          <a:blip r:embed="rId5"/>
          <a:stretch/>
        </p:blipFill>
        <p:spPr>
          <a:xfrm>
            <a:off x="4419720" y="1752480"/>
            <a:ext cx="41907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Fresnel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4876920"/>
            <a:ext cx="358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Bright ref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off low-reflectance su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Fresnel00" descr=""/>
          <p:cNvPicPr/>
          <p:nvPr/>
        </p:nvPicPr>
        <p:blipFill>
          <a:blip r:embed="rId1"/>
          <a:stretch/>
        </p:blipFill>
        <p:spPr>
          <a:xfrm>
            <a:off x="4191120" y="4038480"/>
            <a:ext cx="4572000" cy="2536920"/>
          </a:xfrm>
          <a:prstGeom prst="rect">
            <a:avLst/>
          </a:prstGeom>
          <a:ln w="0">
            <a:noFill/>
          </a:ln>
        </p:spPr>
      </p:pic>
      <p:pic>
        <p:nvPicPr>
          <p:cNvPr id="104" name="Fresnel01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4419720" cy="2719440"/>
          </a:xfrm>
          <a:prstGeom prst="rect">
            <a:avLst/>
          </a:prstGeom>
          <a:ln w="0">
            <a:noFill/>
          </a:ln>
        </p:spPr>
      </p:pic>
      <p:pic>
        <p:nvPicPr>
          <p:cNvPr id="105" name="Fresnel02" descr=""/>
          <p:cNvPicPr/>
          <p:nvPr/>
        </p:nvPicPr>
        <p:blipFill>
          <a:blip r:embed="rId3"/>
          <a:stretch/>
        </p:blipFill>
        <p:spPr>
          <a:xfrm>
            <a:off x="4343400" y="1219320"/>
            <a:ext cx="441972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Exposure Control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pic>
        <p:nvPicPr>
          <p:cNvPr id="107" name="Exposure00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259236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Exposure01" descr=""/>
          <p:cNvPicPr/>
          <p:nvPr/>
        </p:nvPicPr>
        <p:blipFill>
          <a:blip r:embed="rId2"/>
          <a:stretch/>
        </p:blipFill>
        <p:spPr>
          <a:xfrm>
            <a:off x="3276720" y="1600200"/>
            <a:ext cx="2592360" cy="157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Exposure02" descr=""/>
          <p:cNvPicPr/>
          <p:nvPr/>
        </p:nvPicPr>
        <p:blipFill>
          <a:blip r:embed="rId3"/>
          <a:stretch/>
        </p:blipFill>
        <p:spPr>
          <a:xfrm>
            <a:off x="5943600" y="1600200"/>
            <a:ext cx="2592360" cy="15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0" name="Exposure03" descr=""/>
          <p:cNvPicPr/>
          <p:nvPr/>
        </p:nvPicPr>
        <p:blipFill>
          <a:blip r:embed="rId4"/>
          <a:stretch/>
        </p:blipFill>
        <p:spPr>
          <a:xfrm>
            <a:off x="609480" y="3276720"/>
            <a:ext cx="2592360" cy="1598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Exposure04" descr=""/>
          <p:cNvPicPr/>
          <p:nvPr/>
        </p:nvPicPr>
        <p:blipFill>
          <a:blip r:embed="rId5"/>
          <a:stretch/>
        </p:blipFill>
        <p:spPr>
          <a:xfrm>
            <a:off x="3276720" y="3276720"/>
            <a:ext cx="2590560" cy="156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2" name="Exposure05" descr=""/>
          <p:cNvPicPr/>
          <p:nvPr/>
        </p:nvPicPr>
        <p:blipFill>
          <a:blip r:embed="rId6"/>
          <a:stretch/>
        </p:blipFill>
        <p:spPr>
          <a:xfrm>
            <a:off x="5943600" y="3276720"/>
            <a:ext cx="2592360" cy="15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Exposure06" descr=""/>
          <p:cNvPicPr/>
          <p:nvPr/>
        </p:nvPicPr>
        <p:blipFill>
          <a:blip r:embed="rId7"/>
          <a:stretch/>
        </p:blipFill>
        <p:spPr>
          <a:xfrm>
            <a:off x="609480" y="4952880"/>
            <a:ext cx="2590920" cy="155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Exposure07" descr=""/>
          <p:cNvPicPr/>
          <p:nvPr/>
        </p:nvPicPr>
        <p:blipFill>
          <a:blip r:embed="rId8"/>
          <a:stretch/>
        </p:blipFill>
        <p:spPr>
          <a:xfrm>
            <a:off x="3276720" y="4952880"/>
            <a:ext cx="2593800" cy="146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Exposure08" descr=""/>
          <p:cNvPicPr/>
          <p:nvPr/>
        </p:nvPicPr>
        <p:blipFill>
          <a:blip r:embed="rId9"/>
          <a:stretch/>
        </p:blipFill>
        <p:spPr>
          <a:xfrm>
            <a:off x="5943600" y="4952880"/>
            <a:ext cx="2590920" cy="15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DoF01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17" name="DoF00" descr=""/>
          <p:cNvPicPr/>
          <p:nvPr/>
        </p:nvPicPr>
        <p:blipFill>
          <a:blip r:embed="rId2"/>
          <a:stretch/>
        </p:blipFill>
        <p:spPr>
          <a:xfrm>
            <a:off x="3733920" y="396252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18" name="DoF02" descr=""/>
          <p:cNvPicPr/>
          <p:nvPr/>
        </p:nvPicPr>
        <p:blipFill>
          <a:blip r:embed="rId3"/>
          <a:stretch/>
        </p:blipFill>
        <p:spPr>
          <a:xfrm>
            <a:off x="762120" y="18288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Depth-of-Field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20" name=""/>
          <p:cNvSpPr/>
          <p:nvPr/>
        </p:nvSpPr>
        <p:spPr>
          <a:xfrm>
            <a:off x="7620120" y="640080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lissBold"/>
              </a:rPr>
              <a:t>Future perspe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Motion Blur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pic>
        <p:nvPicPr>
          <p:cNvPr id="122" name="MotionBlur01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123" name="MotionBlur00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4419360" cy="3314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620120" y="640080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lissBold"/>
              </a:rPr>
              <a:t>Future perspe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7T04:27:01Z</dcterms:created>
  <dc:creator>Masaki Kawase</dc:creator>
  <dc:description/>
  <dc:language>en-US</dc:language>
  <cp:lastModifiedBy>Masaki Kawase</cp:lastModifiedBy>
  <dcterms:modified xsi:type="dcterms:W3CDTF">2004-03-17T19:38:59Z</dcterms:modified>
  <cp:revision>3319</cp:revision>
  <dc:subject/>
  <dc:title>Practical Implementation of High Dynamic Range Rendering</dc:title>
</cp:coreProperties>
</file>